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13.png" ContentType="image/pn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E35-F07F-4B93-B196-D0A77106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10E-2CC4-4F88-B327-C8396DDD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3E8-D24A-4302-B69B-3941DC87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94C-2223-4A72-8A05-7006437B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3678-2C9B-485D-905F-8E770933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6BCE-833E-4AAF-954D-0BD6390F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9559-C8A2-4773-8778-0F5DB8C1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C9D7-E9EC-4C3D-A4E0-E7F6B8DF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C991-485C-44E4-810D-86E1413D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7146-1BD9-41BA-94EF-B333CBCB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2F95-59DA-484A-9478-F15AEA46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014-7AE6-40A4-A1A6-6FBDD44C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15E3-EA2F-4B40-83EA-2D71A8B5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2021-AF52-4779-BEA0-507459F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70E5-2591-4374-B512-BB7CD0F8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0DC8-036B-4F66-9D61-E5535CE3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4264-D82B-46C2-A1AB-0700D316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F0F-78EB-471E-AB04-7CBCE5D6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19D-01FB-4EB2-8831-0215083E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38D-6856-4CE7-9DC3-63CCF526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774-B1E3-40C0-9B05-9ADF2EFB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381-66F3-447E-91AC-A4D1E73B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751-81DC-4267-B382-DED57E6E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557-843F-405C-BD40-B04D032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64CF-2062-41BC-8DCC-66D439BB77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553E-0C09-4D01-AF43-EBF2F9E075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899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0c28"/>
                </a:solidFill>
                <a:latin typeface="Arial Black"/>
              </a:rPr>
              <a:t>Ce consecin</a:t>
            </a:r>
            <a:r>
              <a:rPr b="1" lang="ro-RO" sz="4800" spc="-1" strike="noStrike">
                <a:solidFill>
                  <a:srgbClr val="fa0c28"/>
                </a:solidFill>
                <a:latin typeface="Arial Black"/>
              </a:rPr>
              <a:t>ţe are încălzirea globală</a:t>
            </a:r>
            <a:r>
              <a:rPr b="1" lang="en-US" sz="4800" spc="-1" strike="noStrike">
                <a:solidFill>
                  <a:srgbClr val="fa0c28"/>
                </a:solidFill>
                <a:latin typeface="Arial Black"/>
              </a:rPr>
              <a:t>?</a:t>
            </a:r>
            <a:endParaRPr b="1" lang="en-US" sz="4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3049200"/>
            <a:ext cx="684216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Prezentare realizată de echi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cc00"/>
                </a:solidFill>
                <a:latin typeface="Arial Black"/>
              </a:rPr>
              <a:t>Ecologi’tilor”  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formată di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: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uela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exandra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istian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 şi Silv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u </a:t>
            </a: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 Black"/>
              </a:rPr>
              <a:t>Clasa a XI-a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50920" y="100800"/>
            <a:ext cx="7705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ucruri pe care 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î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nc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zirea global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le-ar schimb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34800"/>
            <a:ext cx="30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area barier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de cor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putea fi primul  di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tr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cosistem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ce s-ar distru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79280" y="3213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ea tropical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mazonian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 putea deveni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r-o zi d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0" descr="padurea tropicala amazoniana"/>
          <p:cNvPicPr/>
          <p:nvPr/>
        </p:nvPicPr>
        <p:blipFill>
          <a:blip r:embed="rId1"/>
          <a:stretch/>
        </p:blipFill>
        <p:spPr>
          <a:xfrm>
            <a:off x="395280" y="4149720"/>
            <a:ext cx="1766880" cy="2708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3780000" y="692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tul Sahara ar putea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verz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2" descr="sahara"/>
          <p:cNvPicPr/>
          <p:nvPr/>
        </p:nvPicPr>
        <p:blipFill>
          <a:blip r:embed="rId2"/>
          <a:stretch/>
        </p:blipFill>
        <p:spPr>
          <a:xfrm>
            <a:off x="4500720" y="1125360"/>
            <a:ext cx="2447640" cy="179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4140360" y="328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Uragane devastato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4" descr="katrina"/>
          <p:cNvPicPr/>
          <p:nvPr/>
        </p:nvPicPr>
        <p:blipFill>
          <a:blip r:embed="rId3"/>
          <a:stretch/>
        </p:blipFill>
        <p:spPr>
          <a:xfrm>
            <a:off x="4500720" y="3716280"/>
            <a:ext cx="27511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barieracorali"/>
          <p:cNvPicPr/>
          <p:nvPr/>
        </p:nvPicPr>
        <p:blipFill>
          <a:blip r:embed="rId4"/>
          <a:stretch/>
        </p:blipFill>
        <p:spPr>
          <a:xfrm>
            <a:off x="250920" y="1555920"/>
            <a:ext cx="237636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24000" y="333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ondra, o amint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Top 10 lucruri pe care incalzirea globala le-ar schimba (Poze)"/>
          <p:cNvPicPr/>
          <p:nvPr/>
        </p:nvPicPr>
        <p:blipFill>
          <a:blip r:embed="rId1"/>
          <a:stretch/>
        </p:blipFill>
        <p:spPr>
          <a:xfrm>
            <a:off x="179280" y="836640"/>
            <a:ext cx="3351240" cy="2681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324000" y="378936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r putea exista animale de dimensiun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i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8" descr="animale"/>
          <p:cNvPicPr/>
          <p:nvPr/>
        </p:nvPicPr>
        <p:blipFill>
          <a:blip r:embed="rId2"/>
          <a:stretch/>
        </p:blipFill>
        <p:spPr>
          <a:xfrm>
            <a:off x="250920" y="4581360"/>
            <a:ext cx="3168720" cy="1986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9"/>
          <p:cNvSpPr/>
          <p:nvPr/>
        </p:nvSpPr>
        <p:spPr>
          <a:xfrm>
            <a:off x="3708360" y="260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 jur de 2.000 de insule indoneziene ar putea disp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0" descr="insule indoneziene"/>
          <p:cNvPicPr/>
          <p:nvPr/>
        </p:nvPicPr>
        <p:blipFill>
          <a:blip r:embed="rId3"/>
          <a:stretch/>
        </p:blipFill>
        <p:spPr>
          <a:xfrm>
            <a:off x="5003640" y="907920"/>
            <a:ext cx="2373480" cy="2737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427640" y="393372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erorism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migra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e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 cr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2" descr="terorism"/>
          <p:cNvPicPr/>
          <p:nvPr/>
        </p:nvPicPr>
        <p:blipFill>
          <a:blip r:embed="rId4"/>
          <a:stretch/>
        </p:blipFill>
        <p:spPr>
          <a:xfrm>
            <a:off x="4859280" y="4508640"/>
            <a:ext cx="3168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324000" y="3333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irea gh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ilor din Alp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alpi"/>
          <p:cNvPicPr/>
          <p:nvPr/>
        </p:nvPicPr>
        <p:blipFill>
          <a:blip r:embed="rId1"/>
          <a:stretch/>
        </p:blipFill>
        <p:spPr>
          <a:xfrm>
            <a:off x="539640" y="907920"/>
            <a:ext cx="2880000" cy="18050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4211640" y="33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io, Maldive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7" descr="maldive"/>
          <p:cNvPicPr/>
          <p:nvPr/>
        </p:nvPicPr>
        <p:blipFill>
          <a:blip r:embed="rId2"/>
          <a:stretch/>
        </p:blipFill>
        <p:spPr>
          <a:xfrm>
            <a:off x="4427640" y="907920"/>
            <a:ext cx="2592360" cy="1935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Britanicii au protestat înaintea întâlnirii de la Copenhaga"/>
          <p:cNvPicPr/>
          <p:nvPr/>
        </p:nvPicPr>
        <p:blipFill>
          <a:blip r:embed="rId3"/>
          <a:stretch/>
        </p:blipFill>
        <p:spPr>
          <a:xfrm>
            <a:off x="1332000" y="3201840"/>
            <a:ext cx="5688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808080"/>
                </a:solidFill>
                <a:latin typeface="Times New Roman"/>
              </a:rPr>
              <a:t>Cum ne putem salva planeta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?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0" name="Picture 5" descr="copaciartificiali"/>
          <p:cNvPicPr/>
          <p:nvPr/>
        </p:nvPicPr>
        <p:blipFill>
          <a:blip r:embed="rId1"/>
          <a:stretch/>
        </p:blipFill>
        <p:spPr>
          <a:xfrm>
            <a:off x="0" y="2060640"/>
            <a:ext cx="4464000" cy="3141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generatoaredenori"/>
          <p:cNvPicPr/>
          <p:nvPr/>
        </p:nvPicPr>
        <p:blipFill>
          <a:blip r:embed="rId2"/>
          <a:stretch/>
        </p:blipFill>
        <p:spPr>
          <a:xfrm>
            <a:off x="4932360" y="2060640"/>
            <a:ext cx="3749760" cy="31417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4788000" y="6021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eneratori de n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11280" y="580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cipiente cu alge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şi energii 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atei:Photovoltaik adlershof.jpg"/>
          <p:cNvPicPr/>
          <p:nvPr/>
        </p:nvPicPr>
        <p:blipFill>
          <a:blip r:embed="rId1"/>
          <a:stretch/>
        </p:blipFill>
        <p:spPr>
          <a:xfrm>
            <a:off x="0" y="0"/>
            <a:ext cx="487692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File:Dreischluchtendamm hauptwall 2006.jpg"/>
          <p:cNvPicPr/>
          <p:nvPr/>
        </p:nvPicPr>
        <p:blipFill>
          <a:blip r:embed="rId2"/>
          <a:stretch/>
        </p:blipFill>
        <p:spPr>
          <a:xfrm>
            <a:off x="5003640" y="1698480"/>
            <a:ext cx="4140360" cy="2773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Energie curata printr-o metoda ingenioasa!"/>
          <p:cNvPicPr/>
          <p:nvPr/>
        </p:nvPicPr>
        <p:blipFill>
          <a:blip r:embed="rId3"/>
          <a:stretch/>
        </p:blipFill>
        <p:spPr>
          <a:xfrm>
            <a:off x="4356000" y="4486320"/>
            <a:ext cx="4788000" cy="2371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SeaGen array artists impression"/>
          <p:cNvPicPr/>
          <p:nvPr/>
        </p:nvPicPr>
        <p:blipFill>
          <a:blip r:embed="rId4"/>
          <a:stretch/>
        </p:blipFill>
        <p:spPr>
          <a:xfrm>
            <a:off x="0" y="3854520"/>
            <a:ext cx="3529080" cy="30034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250920" y="314172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nergii nepolu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370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onservFuelGasBESign"/>
          <p:cNvPicPr/>
          <p:nvPr/>
        </p:nvPicPr>
        <p:blipFill>
          <a:blip r:embed="rId2"/>
          <a:stretch/>
        </p:blipFill>
        <p:spPr>
          <a:xfrm>
            <a:off x="4284720" y="2455920"/>
            <a:ext cx="4249800" cy="4249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468360" y="393372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Energia mareelor  şi combustibili alterna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189000"/>
            <a:ext cx="8713800" cy="63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faturi pentru a reduce încălzirea globală</a:t>
            </a:r>
            <a:r>
              <a:rPr b="1" lang="he-IL" sz="2400" spc="-1" strike="noStrike">
                <a:solidFill>
                  <a:srgbClr val="ffffff"/>
                </a:solidFill>
                <a:latin typeface="Times New Roman"/>
                <a:cs typeface="Arial"/>
              </a:rPr>
              <a:t>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înlocuiţi becurile incandescente cu cele fluorescente (un pas la îndemâna tuturor!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creşterea ponderii energiilor  verzi (nepoluant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rea defrişărilor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paci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or ajuta la reducerea concentraţiei de dioxid de carbon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 atmosfera Pământului prin absorbţia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lui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geţ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u bicicleta sau pe jos în loc de a folosi vehicule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ca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ibuie la poluarea aerulu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ţine aparatele electrice din casa sau birou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 modul de aşteptare, deoarece utilizarea acestor aparat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e consum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ergie electrică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ar şi atunci când în stand-b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n recurgerea la refolosirea si reciclarea salv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ă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cantitate semnificativă de energie şi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ilor prim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ârtie, sticle de plastic, 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aluminiu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ţi salva peste 1000 kg de dioxid de carbon pe an reciclând doar jumatate din deşeurile menajere.</a:t>
            </a:r>
            <a:br>
              <a:rPr sz="2400"/>
            </a:b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ţi salva 550 kg de CO2 pe an dacă îţi reduci gunoiul cu 1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Acţiuni pentru a opri încălzirea globală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"/>
          <p:cNvSpPr/>
          <p:nvPr/>
        </p:nvSpPr>
        <p:spPr>
          <a:xfrm>
            <a:off x="0" y="35712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aliceboboc.wordpres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greenhouse.gov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aliceboboc.wordpres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ww.greenhouse.gov.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enicul.wordpres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bir.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928800" y="2786040"/>
            <a:ext cx="74293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dadalos.org/nachhaltigkeit_rom/grundkurs_4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apropo.ro/wow/top-10-lucruri-pe-care-incalzirea-globala-le-ar-schimba-poze-49547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ttp://www.buzzle.com/articles/effects-consequences-global-warming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greenblog.descopera.ro/tag/incalzire-global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http://www.marineturbines.com/21/techn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http://www.ecomagazin.r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afax.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dn.md/index.php?view=viewarticle&amp;articleid=26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928800" y="21430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ro.wikipedia.org/wiki/Fi%C8%99ier:Instrumental_Temperature_Record_ro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0920" y="260280"/>
            <a:ext cx="864216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at</a:t>
            </a:r>
            <a:r>
              <a:rPr b="1" lang="ro-RO" sz="3600" spc="-1" strike="noStrike">
                <a:solidFill>
                  <a:srgbClr val="ffffff"/>
                </a:solidFill>
                <a:latin typeface="Times New Roman"/>
              </a:rPr>
              <a:t>ă  efecte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heţarii şi gheaţa polară se topesc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încălzirea oceanelor şi creşterea nivelului mărilor (reducerea supraf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uscatulu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sulele  mai  mici  sunt ameninţate) 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plificarea circuitului apelor la nivel global: la tropice se evaporă din ce în ce mai multă apă, care se transformă mai apoi în ploaie în emisfera nordic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ţinutul salin al Atlanticului de Nord scad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şi, astfel, transportul de căldură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de căt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lfstr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e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 Europa scade în intensitate şi se poate chiar întrerupe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 sunt excluse schimbări climatice abrupte îndesirea evenimentelor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eorologice extreme: tornade, ploi torenţiale, inundaţii, secetă;</a:t>
            </a:r>
            <a:br>
              <a:rPr sz="2800"/>
            </a:b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571680" y="357120"/>
            <a:ext cx="7286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întinderea deşerturilor (pierderi teritoriale, refugiaţi ecologici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dificarea vegetaţiei: suprafeţe uriaşe de pădure ar putea dispărea. Astfel s-ar elibera în atmosferă cantităţi uriaşe de dioxid de carbon, care ar accelera încă şi mai mult efectul de seră, conducând la o şi mai rapidă încălzire globală ("efect de seră galopant"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incendii foresti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•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bile distrugeri masive ale stratului de ozon: se bănuieşte că încălzirea Pământului va duce la o răcire a stratosferei (parte a atmosferei, la o înălţime de 15–25 km), care va accelera procesul de distrugere al stratului de oz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14200" y="357120"/>
            <a:ext cx="8429760" cy="83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•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rea criosferei , 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ul permanent de gheata, care se reg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special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emisfera nordi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top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treptat. Acest lucru cauzeaz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ar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 gaurilor, care pot afecta tot felul de structuri, 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ele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 omen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ctarea s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umane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animale 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ra s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umane, efectele sunt de natur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zi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sihi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c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ea num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ui celor infecta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u paraz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ţ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rea pielii ,cancere cutanate,boli de ochi,s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a imuni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•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ea animalelor va presupune cheltuieli majore pentru rezolvarea problemelor veterinare nou ap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te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cheltuieli mari cu hr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Instrumental_Temperature_Record_ro"/>
          <p:cNvPicPr/>
          <p:nvPr/>
        </p:nvPicPr>
        <p:blipFill>
          <a:blip r:embed="rId1"/>
          <a:stretch/>
        </p:blipFill>
        <p:spPr>
          <a:xfrm>
            <a:off x="3274920" y="0"/>
            <a:ext cx="5869080" cy="4403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Fișier:Recent Sea Level Rise ro.png"/>
          <p:cNvPicPr/>
          <p:nvPr/>
        </p:nvPicPr>
        <p:blipFill>
          <a:blip r:embed="rId2"/>
          <a:stretch/>
        </p:blipFill>
        <p:spPr>
          <a:xfrm>
            <a:off x="0" y="3591000"/>
            <a:ext cx="46432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m_2_resiz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50920" y="26028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Reacţii  în lanţ ale efectului de ser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35712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şertificarea afectează 25% din suprafaţa uscatului, 110 ţări şi circa 1 miliard de locuito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74944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755640" y="765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7" descr="index2"/>
          <p:cNvPicPr/>
          <p:nvPr/>
        </p:nvPicPr>
        <p:blipFill>
          <a:blip r:embed="rId1"/>
          <a:stretch/>
        </p:blipFill>
        <p:spPr>
          <a:xfrm>
            <a:off x="0" y="0"/>
            <a:ext cx="3348000" cy="2523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video_121742681917710800_2_small"/>
          <p:cNvPicPr/>
          <p:nvPr/>
        </p:nvPicPr>
        <p:blipFill>
          <a:blip r:embed="rId2"/>
          <a:stretch/>
        </p:blipFill>
        <p:spPr>
          <a:xfrm>
            <a:off x="5791320" y="22050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Incendiu+padure"/>
          <p:cNvPicPr/>
          <p:nvPr/>
        </p:nvPicPr>
        <p:blipFill>
          <a:blip r:embed="rId3"/>
          <a:stretch/>
        </p:blipFill>
        <p:spPr>
          <a:xfrm>
            <a:off x="2268360" y="2492280"/>
            <a:ext cx="3953160" cy="244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seceta"/>
          <p:cNvPicPr/>
          <p:nvPr/>
        </p:nvPicPr>
        <p:blipFill>
          <a:blip r:embed="rId4"/>
          <a:stretch/>
        </p:blipFill>
        <p:spPr>
          <a:xfrm>
            <a:off x="5148360" y="0"/>
            <a:ext cx="3995640" cy="239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image_jpeg_part6"/>
          <p:cNvPicPr/>
          <p:nvPr/>
        </p:nvPicPr>
        <p:blipFill>
          <a:blip r:embed="rId5"/>
          <a:stretch/>
        </p:blipFill>
        <p:spPr>
          <a:xfrm>
            <a:off x="0" y="2492280"/>
            <a:ext cx="3348000" cy="2509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hunger"/>
          <p:cNvPicPr/>
          <p:nvPr/>
        </p:nvPicPr>
        <p:blipFill>
          <a:blip r:embed="rId6"/>
          <a:stretch/>
        </p:blipFill>
        <p:spPr>
          <a:xfrm>
            <a:off x="2771640" y="0"/>
            <a:ext cx="3459240" cy="247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Marile migratii au nevoie de protectie"/>
          <p:cNvPicPr/>
          <p:nvPr/>
        </p:nvPicPr>
        <p:blipFill>
          <a:blip r:embed="rId7"/>
          <a:stretch/>
        </p:blipFill>
        <p:spPr>
          <a:xfrm>
            <a:off x="3276720" y="4819680"/>
            <a:ext cx="3492360" cy="203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microbuzele desertului"/>
          <p:cNvPicPr/>
          <p:nvPr/>
        </p:nvPicPr>
        <p:blipFill>
          <a:blip r:embed="rId8"/>
          <a:stretch/>
        </p:blipFill>
        <p:spPr>
          <a:xfrm>
            <a:off x="0" y="4724280"/>
            <a:ext cx="3276720" cy="2140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2"/>
          <p:cNvSpPr/>
          <p:nvPr/>
        </p:nvSpPr>
        <p:spPr>
          <a:xfrm>
            <a:off x="6804000" y="5300640"/>
            <a:ext cx="216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fecte 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ncălzirii globale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[peisaj din groenlanda.png]"/>
          <p:cNvPicPr/>
          <p:nvPr/>
        </p:nvPicPr>
        <p:blipFill>
          <a:blip r:embed="rId1"/>
          <a:stretch/>
        </p:blipFill>
        <p:spPr>
          <a:xfrm>
            <a:off x="5796000" y="2349360"/>
            <a:ext cx="3348000" cy="2170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"/>
          <p:cNvPicPr/>
          <p:nvPr/>
        </p:nvPicPr>
        <p:blipFill>
          <a:blip r:embed="rId2"/>
          <a:stretch/>
        </p:blipFill>
        <p:spPr>
          <a:xfrm>
            <a:off x="4572000" y="4292640"/>
            <a:ext cx="4572000" cy="2583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katrina"/>
          <p:cNvPicPr/>
          <p:nvPr/>
        </p:nvPicPr>
        <p:blipFill>
          <a:blip r:embed="rId3"/>
          <a:stretch/>
        </p:blipFill>
        <p:spPr>
          <a:xfrm>
            <a:off x="4859280" y="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nundatii-pakistan-3-afp"/>
          <p:cNvPicPr/>
          <p:nvPr/>
        </p:nvPicPr>
        <p:blipFill>
          <a:blip r:embed="rId4"/>
          <a:stretch/>
        </p:blipFill>
        <p:spPr>
          <a:xfrm>
            <a:off x="0" y="0"/>
            <a:ext cx="3492360" cy="229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inundatii-pascani"/>
          <p:cNvPicPr/>
          <p:nvPr/>
        </p:nvPicPr>
        <p:blipFill>
          <a:blip r:embed="rId5"/>
          <a:stretch/>
        </p:blipFill>
        <p:spPr>
          <a:xfrm>
            <a:off x="2771640" y="1916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1992_Andrews_1"/>
          <p:cNvPicPr/>
          <p:nvPr/>
        </p:nvPicPr>
        <p:blipFill>
          <a:blip r:embed="rId6"/>
          <a:stretch/>
        </p:blipFill>
        <p:spPr>
          <a:xfrm>
            <a:off x="735120" y="4286160"/>
            <a:ext cx="3867120" cy="2571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&amp;Bcy;&amp;iecy;&amp;zcy; &amp;ocy;&amp;pcy;&amp;icy;&amp;scy;&amp;acy;&amp;ncy;&amp;icy;&amp;yacy;"/>
          <p:cNvPicPr/>
          <p:nvPr/>
        </p:nvPicPr>
        <p:blipFill>
          <a:blip r:embed="rId7"/>
          <a:stretch/>
        </p:blipFill>
        <p:spPr>
          <a:xfrm>
            <a:off x="0" y="2082960"/>
            <a:ext cx="27860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0:14:10Z</dcterms:created>
  <dc:creator>user</dc:creator>
  <dc:description/>
  <dc:language>en-US</dc:language>
  <cp:lastModifiedBy>HE</cp:lastModifiedBy>
  <dcterms:modified xsi:type="dcterms:W3CDTF">2010-12-21T07:05:50Z</dcterms:modified>
  <cp:revision>45</cp:revision>
  <dc:subject/>
  <dc:title>Cum să facem  o schimbare?</dc:title>
</cp:coreProperties>
</file>